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1A0-8F0D-4293-AC4A-7FAA011E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972-3883-43F4-A759-BD2778F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666-B2EF-4F44-B9E4-57354CF0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A9D-B62B-4523-96C2-9AC489B3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652-9A1C-4A84-A653-C73E5A1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402-C4B4-42BC-BE61-8B7B5EA2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AC8-0BE7-450E-8A5C-684C840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265-08AF-485F-912C-43D1EB9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34A-E3EA-4613-9CE9-BF00FCD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0D8-A727-41CE-9ACB-FC1FE96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211-B882-458F-8F07-BFC97AC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42B-0248-4254-AD05-0D704D37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93F1-D4DC-49AD-A808-50EF56DF5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s and Dwarf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an L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 Ol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Na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 Ruu Corp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228600" y="228600"/>
          <a:ext cx="9524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8600"/>
                    <a:ext cx="9524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-152280"/>
          <a:ext cx="8686800" cy="727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152280"/>
                    <a:ext cx="8686800" cy="72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500040"/>
          <a:ext cx="9296280" cy="63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92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lanet 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et - A spherical object in space that has its own atmosphere and orbits a much bigger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arther a planet is away from what it orbits, the longer the orbital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y Planet that has less than 10 moons, is considered a small planet, or a dwarf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any planet with a diameter that is bigger than 2.0 is considered a big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arther away a planet is from the Sun, the longer the Orbital Period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You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44:30Z</dcterms:created>
  <dc:creator>mchamorro</dc:creator>
  <dc:description/>
  <dc:language>en-US</dc:language>
  <cp:lastModifiedBy>Amphitheater Public Schools</cp:lastModifiedBy>
  <dcterms:modified xsi:type="dcterms:W3CDTF">2011-02-15T15:59:37Z</dcterms:modified>
  <cp:revision>3</cp:revision>
  <dc:subject/>
  <dc:title>Planets and Dwarf Planets</dc:title>
</cp:coreProperties>
</file>